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14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15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90BC-9A79-4AFF-8134-19FD07BE28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2F9F-1A66-4511-B604-A9B6A691130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79DA-71E7-47AA-8CDE-FDBA61942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3472-54B0-4DF9-B9B9-799AF5B2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60EE-557A-4CCA-A439-106B6E209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7661-8F7E-4323-8778-86E773FC4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A772-E611-4A8F-9282-1CA55EB97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8FAE-1FC3-421A-BF93-93169881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7F4F-EEE4-4A48-933B-D02A2B22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FF29-4764-4770-80DB-BDFE79A9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B082-6D94-4066-907D-18528DD0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EF0AA-69B0-4A34-8672-BF0617A4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BF283-2D5A-4776-BE4B-DCC5AA21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1491-9C7C-43A4-8EAC-D055D377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0DB1-A0E8-41E1-AFE6-69DC13FF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71CE-CE3F-491F-AA86-B36C38B8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D913-82E5-490A-88E7-0FC2A737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8601-3442-4471-80A5-2CD8F5F6F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B33A-D11C-4A3C-8253-EA14BDCD0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F9839B-A086-4742-9AB8-8CFB13D53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A391D0-57CC-439A-83BD-23C7266C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2E8CD4-012B-45E0-8202-359F1FB4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2039B2-DEA1-4654-A6DB-EE06245F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B1F113-501A-4A5F-89D6-ED2FD780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4CA8-FBE0-4596-9CF1-0622E8D3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7C252C-45F5-402D-849B-8F0A12BE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C15A6C-622F-4C08-8AA6-91198462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7B8615-5937-4CA6-B746-9908CF60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71B757-D29A-449F-AC1E-920E7485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CE35D3-A610-4C5E-B869-D5B6B4DA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3B5A3B-EEDA-4316-9BC6-9A82B2BE2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996EA5-9A55-48DE-A782-D630BF200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85CBB8-B3EB-457F-87E5-9ADBF36EB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2B1AE0-D557-4948-986F-322A72C1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254C35-5A29-44E9-A3A2-93B74F79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49FC-A610-41F5-96ED-F445B72B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9EC6BB-F96B-48F3-8751-65914456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97EED3-B43C-4C23-9D4C-2A696E44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174EC6-6D52-481C-AA59-D2CD03CF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1FB5A2-F1BF-4462-BD9C-3E0C63E4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D6E695-AC54-4B4A-8C98-B9D78D53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4D6A19-A852-481B-89A1-C412E09F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863C96-40C6-4F99-8647-5652E6F6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DCEA39-B3C4-4657-9A9C-E7B329F9B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F0C30C-83C7-4026-AAF5-811EBC494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93B7-0CFE-412E-8712-EFE757F9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DF90-ACEE-4457-9814-1321017D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6C12-A97D-4792-AA52-40D6269A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3565-AF9F-4B1F-97F0-975D9BA6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EC8A-93AD-493C-8918-2FCC6638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FCDC-F517-47C8-ABE5-ABF40A0CA1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6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FFC7-9307-4043-A787-C298D119232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2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2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2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71E8-2F1E-41EC-AADF-6EDF89405A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84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88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9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0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5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7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105D-D5EE-42E8-B71C-07BA1D34ED5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3e3ff"/>
                </a:solidFill>
                <a:latin typeface="Times New Roman"/>
              </a:rPr>
              <a:t>“</a:t>
            </a: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Сведения о контингентах больных с психическими расстройствами, находящихся на активном диспансерном наблюдении и на принудительном лечении</a:t>
            </a:r>
            <a:r>
              <a:rPr b="1" lang="en-US" sz="2800" spc="-1" strike="noStrike">
                <a:solidFill>
                  <a:srgbClr val="e3e3ff"/>
                </a:solidFill>
                <a:latin typeface="Times New Roman"/>
              </a:rPr>
              <a:t>” </a:t>
            </a: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(Форма № 36-ПЛ) </a:t>
            </a:r>
            <a:br>
              <a:rPr sz="28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132000" y="4221000"/>
            <a:ext cx="5554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ГБУ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МИЦПН имени В.П.Сербского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инздрава Ро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дел судебно-психиатрической профилак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азько Наталья Викто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Шарабидзе Нино Гурам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Основы предварительной подготовки отчет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4" name="TextBox 3"/>
          <p:cNvSpPr/>
          <p:nvPr/>
        </p:nvSpPr>
        <p:spPr>
          <a:xfrm>
            <a:off x="684360" y="1844640"/>
            <a:ext cx="7559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Использование программы «ТЕРПИНС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Сравнение с показателями предыдущего го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Подготовка пояснительных записок по проблемным показателя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18"/>
          <p:cNvSpPr/>
          <p:nvPr/>
        </p:nvSpPr>
        <p:spPr>
          <a:xfrm>
            <a:off x="0" y="404640"/>
            <a:ext cx="949968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тингенты больных, находящихся под активны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спансерным наблюдением  АДН ( таблица 2100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Проверка показателя «группы риска» (р.з.15-30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2110, п.3 число снятых с АДН в связи с отсутстви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едений в течение года (р.з.2-3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2130,п. 2 сопоставить с показателем находящихся 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ационарном ПЛ (сумма строк 5 и 6 гр.14 таб.2200)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РФ за 2019г. - 39,5%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11280" y="11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39280" y="1989000"/>
            <a:ext cx="814716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ислитель:  сумма строк 5 и 6 по гр.8 таблицы 2100 формы 36-ПЛ минус сумма строк 5 и 6 гр.10 той же табли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менатель: сумма строк 5 и 6 по гр.8 таблицы 2100 формы 36-П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ножить на 1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почтительное значение от 15 до 30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395280" y="115920"/>
            <a:ext cx="828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Расчёт показателя, характеризующего формирование группы АДН (%% больных, поставленных под АДН и не совершивших в течение жизни ООД –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“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группа риска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”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0080" y="15840"/>
            <a:ext cx="86770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e3e3ff"/>
                </a:solidFill>
                <a:latin typeface="Arial"/>
              </a:rPr>
              <a:t>Контингенты больных, находящихся на принудительном наблюдении и лечении у психиатра в амбулаторных условиях (ПНЛА)</a:t>
            </a:r>
            <a:endParaRPr b="0" lang="en-US" sz="31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8360" y="1773000"/>
            <a:ext cx="8391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таблицы 2140- 219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Соотношение числа находящихся на  ПНЛА ко всем лицам с ПММХ (38,5% по РФ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Средняя продолжительность ПНЛА (по РФ в 2019г. – 625 дней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2190,п.1 – совершившие новое ООД в отчетном году (по РФ снижение показателя в течение 10 лет с 5 до 3,2% в 2018г., 3,9% в 2019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Не поступившие в ПС после ПНЛ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Состав больных, находящихся на принудительном лечении в психиатрических стационарах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Соотношение видов ПЛ (гр.14 стр.9 и 11 к сумме стр.5 и 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Длительность стационарного П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Причины длительности пребывания (от 5 до 10 лет и больше 10 лет – 223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Оценка летальности (по РФ 1,5 % в 2018г., 1,3 % в 2019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Фиксировать нападения больных в период ПЛ (224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09120" y="404640"/>
            <a:ext cx="8001000" cy="59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ополнительные свед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ожно получить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-mail: sharabidze.n@serbsky.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cc"/>
                </a:solidFill>
                <a:latin typeface="Arial"/>
              </a:rPr>
              <a:t>тел. 8(495) 637-58-44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айт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ГБУ «НМИЦПН им. В.П. Сербского» Минздрава России -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bsky.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ПЦ ПЗДП ДЗМ или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pb6.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л.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8 (495) 952-54-39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установки программы ТЕРПИНС-9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обходимо запустить установочный файл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SETUP_TERPINS9.EX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09120" y="68544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fffff"/>
                </a:solidFill>
                <a:latin typeface="Arial"/>
              </a:rPr>
              <a:t>Спасибо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9600" spc="-1" strike="noStrike">
                <a:solidFill>
                  <a:srgbClr val="ffffff"/>
                </a:solidFill>
                <a:latin typeface="Arial"/>
              </a:rPr>
              <a:t>за внимание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6:52:47Z</dcterms:created>
  <dc:creator>gv</dc:creator>
  <dc:description/>
  <dc:language>en-US</dc:language>
  <cp:lastModifiedBy>Наталья Викторовна Лазько</cp:lastModifiedBy>
  <cp:lastPrinted>2017-12-07T17:18:35Z</cp:lastPrinted>
  <dcterms:modified xsi:type="dcterms:W3CDTF">2020-11-23T13:09:44Z</dcterms:modified>
  <cp:revision>801</cp:revision>
  <dc:subject/>
  <dc:title>Таблица 1 Состав невменяемых психически больных по характеру рекомендованных медицинских мер (в %) в 2005 г. Дальневосточный федеральный округ РФ</dc:title>
</cp:coreProperties>
</file>